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5582-AD09-471B-8E2F-EFDBA5AF178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02A4-08BE-444D-9C31-6704FB835C6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14A-457A-4F8C-8B31-4448E850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2DF-A33F-480F-A040-46B7FEA5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1E1-774B-4934-B0D2-62FB8783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8DD-387C-4BC8-9712-DBA4FBE0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8B63-4713-499B-B285-B5199B84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753E-EB92-4653-B4AB-49C8A073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CA6D-C83E-4810-A659-75B48345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14B-A6F2-4E6C-95F5-C9C34FA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E33-D19C-4236-B303-6536E4A7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A5F3-7849-48DB-A871-F0D90E70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782-E37B-4448-971C-450C823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EDC-6AF1-47FC-B4F3-E1BC56AD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C420-227F-4A2D-9EB4-D1D5FFD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266E-7143-4326-9DD8-C531122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1FAC-80B5-4002-A200-649345AB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32D-1F0D-4D9D-B1A4-F2D94FC2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A576-E5B4-496F-BDE0-ACC190D5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C00-159A-4AFF-8478-1A95E237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99FC-35B6-4842-9967-7CFC78A1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FDB-FF38-43C6-AD5E-C278F65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572-80C6-495C-9BC3-BA783F2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803-9C15-4458-941B-53D92AC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786-9D2A-4CC2-BC1C-403F0C9E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947-AA33-4AF6-855B-9305094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AF18-91AF-4812-8546-CF344F580DA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7444-8964-49C4-8055-2C839D4995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katie@timeschange.or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r2"/>
          <p:cNvPicPr/>
          <p:nvPr/>
        </p:nvPicPr>
        <p:blipFill>
          <a:blip r:embed="rId1"/>
          <a:stretch/>
        </p:blipFill>
        <p:spPr>
          <a:xfrm>
            <a:off x="0" y="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536400" y="1603440"/>
            <a:ext cx="8455320" cy="2262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ocated at 365 Bloor Street East (Bloor/Sherbourne) Suite 170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ronto, 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Object 2" descr=""/>
          <p:cNvPicPr/>
          <p:nvPr/>
        </p:nvPicPr>
        <p:blipFill>
          <a:blip r:embed="rId3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rc4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allway"/>
          <p:cNvPicPr/>
          <p:nvPr/>
        </p:nvPicPr>
        <p:blipFill>
          <a:blip r:embed="rId5"/>
          <a:stretch/>
        </p:blipFill>
        <p:spPr>
          <a:xfrm>
            <a:off x="3429000" y="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r1"/>
          <p:cNvPicPr/>
          <p:nvPr/>
        </p:nvPicPr>
        <p:blipFill>
          <a:blip r:embed="rId6"/>
          <a:stretch/>
        </p:blipFill>
        <p:spPr>
          <a:xfrm>
            <a:off x="5410080" y="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obboard1"/>
          <p:cNvPicPr/>
          <p:nvPr/>
        </p:nvPicPr>
        <p:blipFill>
          <a:blip r:embed="rId7"/>
          <a:stretch/>
        </p:blipFill>
        <p:spPr>
          <a:xfrm>
            <a:off x="190512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9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10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are we Unique?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pecific to wo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 Workbo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nline Useful Links section on websit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pportunities to connect with mentors and local business communit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entury Gothic"/>
              </a:rPr>
              <a:t>Enhanced Referral process for Men/Youth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Parliament TCET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t 595 Parliament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Newcomer Information Centr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3 Charles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Youth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YES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555 Richmond Street Wes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f you have male clients, you can refer them to these locations direct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0" y="5257800"/>
            <a:ext cx="192096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To Ref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can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ll (416) 927- 1900 ex0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rop In during business hou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gn up for Getting Stared orientation sess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O Service Provider: Confirm with client that they are not registered with another agenc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 ‘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Ready’: Clients that are ready to look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r work or for training/caree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Loc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65 Bloor Street East Suite 1704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at Sherbourne Statio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ll us: 416 927 19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rvice Hour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day - Thursday 9:00 a.m. to 5:0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iday 9:00 a.m. to 2:3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are a perfume free enviro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ontact Inform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Katie Didy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rketing/Outreach Coordinato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16-927-1900, ext. 222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f5f5f"/>
                </a:solidFill>
                <a:uFillTx/>
                <a:latin typeface="Century Gothic"/>
                <a:hlinkClick r:id="rId1"/>
              </a:rPr>
              <a:t>katie@timeschange.or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nd us on facebook for up to date employment and career information and advic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We are hiring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0" y="5143680"/>
            <a:ext cx="205740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acebook_Logo 19.gif"/>
          <p:cNvPicPr/>
          <p:nvPr/>
        </p:nvPicPr>
        <p:blipFill>
          <a:blip r:embed="rId6"/>
          <a:stretch/>
        </p:blipFill>
        <p:spPr>
          <a:xfrm>
            <a:off x="6629400" y="4267080"/>
            <a:ext cx="703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o We Ar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n-profit employment community agency helping women with their employment goals across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nded during the women’s movement in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ded by: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United Way and Ontario Women’s Directorat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rate as a collective agency with staff of 10 and volunteers to assist cli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brated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niversary last Nov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O Service Provid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itted to providing excellent customer service and client satisfact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ll suite of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cused on employment resul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lient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5-65 from all backgrounds and cultu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fe, supportive enviro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nadian born citizens, permanent residence, refugee claima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me services are available to all clients regardless of statu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jority from St. Jamestown are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ing to find opportunities to network outside of their commun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nguage: Swahili, Spanish, Mandarin, French, Romania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lunteer Opportun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at We Do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SSISTE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er Planning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Search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Placement and Reten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NASSISTE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Career Strategy and Ontario Self Employment Benefi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ume Clin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Room (&amp; computer workshop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ource Centre (&amp; job boar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5270400"/>
            <a:ext cx="1905120" cy="1587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and Un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 require counselling services, attend a workshop, or are referred to other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se clients will go into our CAMS-EOIS database system and will be required to give SIN #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Un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se needs are met using the Resource Centre, Resume Clinic, Second Career, or computers, including computer workshop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ligibility for 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employed/unemployed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loyment workshops are open for working 20 hours or l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 SIN numb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nguage: ESL Level 6 or LINC level 5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 currently registered at another EO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vice provider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3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Services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Search Workshop: 4 morning workshop offered each wee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: Offered every 5 week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Placement: based on ability to match skill set of client to employer need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Unassisted Service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: one on one appointmen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Career and OSEB: applications and referral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Tutorials: independent and flexibl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Workshops: Introductory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: resources for job search and career planning purpos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21:27Z</dcterms:created>
  <dc:creator>Katie</dc:creator>
  <dc:description/>
  <dc:language>en-US</dc:language>
  <cp:lastModifiedBy>aholmes</cp:lastModifiedBy>
  <dcterms:modified xsi:type="dcterms:W3CDTF">2011-07-08T18:45:10Z</dcterms:modified>
  <cp:revision>44</cp:revision>
  <dc:subject/>
  <dc:title>Times Change Women’s Employment Service</dc:title>
</cp:coreProperties>
</file>